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8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03CEB-EFFF-4175-8BAD-2340711A9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554B6-2AE5-4AC8-9B2F-CD908C4BD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13E3B-2377-4984-B8FD-32D7F6884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2AD3A-F261-4BEF-A95C-6B3B01624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A00C4-7710-45DD-860B-E29D4FF55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1974F-73B3-4743-855C-BF03FDD13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6699E-4871-4154-8EBD-4182C8E2B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00889-91A6-4AA3-9752-825A49DF7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C466A-659E-468A-993F-CB746EAAF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41776-C1D3-4C0E-9CCE-3460E6E33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63FEB-78BF-417E-9FDC-3A41C1BB9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1ED3E-A9AF-447D-A9DB-6379F63F0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A1351-D1A3-498C-919F-80802FCD8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3576F-DD05-4B02-98A5-7272C9530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D1B4E-94A6-463B-B2A9-63B1112CC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8092F-789C-457D-970D-A65A78FC8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57F4B-DE6D-4B1B-BA47-F656F7C05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156B06-A9A6-416E-9831-27BE88156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8E65B7-34C3-47C8-9D32-07637B960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9CF32D-5E1C-4BC5-8B56-133D54DC7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1F36E0-2727-4D5F-AD38-2057A371D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B339EA-38BC-4EAB-AA26-71C5D94BC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C097A-9122-41BE-9D1B-7C79B7D6D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02CD2A-B8AE-4630-89AC-618E51017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DE7080-DFE8-4087-BF71-11D1A0475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782371-42FA-4ECF-95AE-B2708C224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8DFA1D-5542-4CEE-8EC0-BFEF873FB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C63FB6-1AA4-4DCF-B39E-64BABAB50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430657-EAE2-4A23-A3B8-30CED2D15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336470-4ADF-404B-9F84-58E8E521A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44683D-2465-4E98-975A-A837CB5E4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91EDBC-3523-4721-96DE-21793ECCD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DAA8B5-A95E-4E54-8DF0-1CDA7CA21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DBD3E-00CA-481F-B7C4-42159C174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6EA3DA-03C5-4782-B54F-41F15DF38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E3BE35-B900-4080-87B8-A426C9F96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8F2D86-DB78-4842-8DCC-4128CB7DC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DA5524-F1DD-484C-87B1-B5B8F217C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DF7F05-BD86-4098-A176-64A144716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326034-8F4D-462B-A77E-E074B264E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E79841-3DB6-4B22-8FCF-E05400977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4052B2-E802-4E82-BDB7-2D190DB3C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D6EB3D-5007-4ED4-8C2C-DA1086794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5462C-48A1-449D-856F-B856B8684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6B646-5F5F-41AD-9311-2C9EABABB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42D89-0C82-49C7-AAD0-FEB12F6AD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608B1-870B-4CE5-8D49-02AB35DF8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9FD68-9C99-4E6B-A00C-2412C5B9D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23EBB-FA43-4A88-ABBF-1C9F9F1D84AA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0F326-3698-4F21-95A8-91B4592AD4A6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A6E11-6391-4B9B-9A64-F5A38E115CA3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BBC4E-C521-4A27-9037-4A451B59E522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1"/>
          <a:stretch/>
        </p:blipFill>
        <p:spPr>
          <a:xfrm>
            <a:off x="530280" y="212760"/>
            <a:ext cx="8259840" cy="4078080"/>
          </a:xfrm>
          <a:prstGeom prst="rect">
            <a:avLst/>
          </a:prstGeom>
          <a:ln w="0">
            <a:noFill/>
          </a:ln>
        </p:spPr>
      </p:pic>
      <p:pic>
        <p:nvPicPr>
          <p:cNvPr id="196" name="Рисунок 10" descr="http://im7-tub.yandex.net/i?id=188270019-04&amp;n=11"/>
          <p:cNvPicPr/>
          <p:nvPr/>
        </p:nvPicPr>
        <p:blipFill>
          <a:blip r:embed="rId2"/>
          <a:stretch/>
        </p:blipFill>
        <p:spPr>
          <a:xfrm>
            <a:off x="4857840" y="4214880"/>
            <a:ext cx="3929040" cy="2428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Основополагающий вопрос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87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Constantia"/>
              </a:rPr>
              <a:t>Когда Земля превратится </a:t>
            </a:r>
            <a:endParaRPr b="0" lang="en-US" sz="3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Constantia"/>
              </a:rPr>
              <a:t>в черную дыру?</a:t>
            </a:r>
            <a:endParaRPr b="0" lang="en-US" sz="35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99" name="Рисунок 3" descr="http://im8-tub.yandex.net/i?id=203031123-07&amp;n=11"/>
          <p:cNvPicPr/>
          <p:nvPr/>
        </p:nvPicPr>
        <p:blipFill>
          <a:blip r:embed="rId1"/>
          <a:stretch/>
        </p:blipFill>
        <p:spPr>
          <a:xfrm>
            <a:off x="4929120" y="3143160"/>
            <a:ext cx="3929040" cy="30718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Проблемные вопросы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колько весит свет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Если свет лишен массы, а значит, и веса, то почему он не может преодолеть силы притяжения черной дыры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Что такое черная дыра и почему она засасывает в себя космические тела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Какой должна стать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Земля, чтобы превратится в черную дыру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ipe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Учебные вопросы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Что же характеризует масса тела, какое его свойство?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Что же характеризует физическое понятие «сила»?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Из чего состоит свет?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Почему мы видим различные тела?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Как распространяется свет в однородной среде?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Что такое световой луч?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Что существует реально: световой пучок или световой луч?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На какие группы подразделяют элементарные частицы?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Есть ли во вселенной другие миры?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Как космические исследования помогают в познании Земли?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comb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2224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Если свет лишен массы, а значит и веса, то почему он не может преодолеть силы притяжения черной дыры?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3071520"/>
            <a:ext cx="8229600" cy="325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Так как масса превращаться в энергию, то отсюда следует, что энергия представляет некоторое количество массы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вет звезд, проходя мимо Солнца, отклоняется от прямолинейного пути, потому что он притягивается гравитацией Солнца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pull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4617b"/>
                </a:solidFill>
                <a:latin typeface="Calibri"/>
              </a:rPr>
              <a:t>Цели проекта:</a:t>
            </a:r>
            <a:endParaRPr b="0" lang="en-US" sz="6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28760" y="19285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nstantia"/>
              </a:rPr>
              <a:t>Учащиеся смогут ответить 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 на проблемные, основополагающий и учебные вопросы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nstantia"/>
              </a:rPr>
              <a:t>Сделают  свою презентацию, буклет по данной теме.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nstantia"/>
              </a:rPr>
              <a:t>Узнают много интересного по данной теме.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00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Литература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500040" y="19285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урышева Н.С., Важеевская Н.Е., физика, 7 класс: учебник для общеобразоват. учеб. заведений, М.: Дрофа, 2001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Касьянов В.А., физика, 10 класс: учебник для общеобразоват. учеб. заведений, М.: Дрофа, 2003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" dur="5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499760"/>
            <a:ext cx="8229600" cy="3143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0" spc="-1" strike="noStrike">
                <a:solidFill>
                  <a:srgbClr val="04617b"/>
                </a:solidFill>
                <a:latin typeface="Calibri"/>
              </a:rPr>
              <a:t>Желаю</a:t>
            </a: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0" lang="ru-RU" sz="7800" spc="-1" strike="noStrike">
                <a:solidFill>
                  <a:srgbClr val="04617b"/>
                </a:solidFill>
                <a:latin typeface="Calibri"/>
              </a:rPr>
              <a:t>творческих успехов!</a:t>
            </a:r>
            <a:endParaRPr b="0" lang="en-US" sz="78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4T16:28:42Z</dcterms:created>
  <dc:creator>Мамочка</dc:creator>
  <dc:description/>
  <dc:language>en-US</dc:language>
  <cp:lastModifiedBy>Мамочка</cp:lastModifiedBy>
  <dcterms:modified xsi:type="dcterms:W3CDTF">2010-05-26T16:36:21Z</dcterms:modified>
  <cp:revision>14</cp:revision>
  <dc:subject/>
  <dc:title>Слайд 1</dc:title>
</cp:coreProperties>
</file>